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0B8C-C4B6-4383-B5BD-841236215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DE2C-ABDE-48CA-855C-4D3C97C40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35FC-DA0A-4348-8ED3-F117676F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418A-7E08-45D2-8145-9538B8B19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3A74-7E63-4A46-AD61-2024C60F3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ACEA-DA36-44B8-9C47-B629CFC53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0BF9-6BE7-40D0-89BE-F4A51CC65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41D2-1EE9-42D2-96AD-238388FD9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39B6-4BE6-44EB-90F8-DCFE1F6C1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82FB-992E-4A50-8438-7144323DA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FA7C-82D2-4128-BF7D-B359D4BA3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DA7F-46F2-4092-827D-A6C56FCA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B90-F2CA-4C4E-94FC-100E9B72B0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0FB-97FB-47B2-A641-C2D5A7BC29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247-2F5D-44E7-8669-C2488A63DC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B074-8198-4443-8323-0D5D3F0C8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1060-21D2-4A6C-AD01-3643C77E50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C1A-392B-4254-AB39-F92A73283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34EA-04E2-45C7-AE6B-7158C23178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6320" cy="4119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I insert link to video called Evernote (not the video called The New Evernot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8B0-56EC-4A2C-A4BA-44A2DB3920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99E2-519A-450E-BBA8-3DCCCA48B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07920" y="1139760"/>
            <a:ext cx="740736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epractice, www.101.qs.com, or a selection of video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F55-8B68-4ABD-A552-EB5D243114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A934-C66E-4B6C-A918-EBC688B4A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0A42-BC5D-4282-9BBF-EFA5CD254F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9F5-3871-4728-BC9F-8A6A84C598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D28-F780-4F50-A33C-3B6DB87104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91A-4B68-45C1-846D-A4260C94E8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600F-7F48-4C3C-8CB1-861F26F74E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D15-0536-4027-BFA6-CC7A94783E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und Robi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2352-DEAA-42A8-9DFB-B6A55475A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776-54E6-46E9-8D4F-C05410A6F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954-2875-41E8-8A42-FC4114AD04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6T19:17:27Z</dcterms:modified>
  <cp:revision>37</cp:revision>
  <dc:subject/>
  <dc:title>&lt;Title&gt;</dc:title>
</cp:coreProperties>
</file>